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70D-BA33-4D6D-BA56-755EB908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55A-E90D-4E02-8888-13C5E20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6A1-30AA-45AA-88A8-201B187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B43-98DD-49C7-B756-703B3A90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FED-9CAE-43E2-86CB-9D090917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BCA-A373-427B-89BE-13DBA7BB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27D-3C40-4B52-9922-1D392FB5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C22-4422-4825-B88D-ADE4862C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1F1-120F-45FF-9534-B097A9C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2C8-CCF0-4FBA-94B0-CE93442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98A-F57E-4E38-A319-E60EA8A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466-6256-4AB6-8DAB-ACFAE77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BCD-9AA7-48C5-BDC9-62F7FFEBA261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ickiblackwell.com/timer.html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’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’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’ll say, “Jack, this is my friend Jill.  Jill, this is my friend Jack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Picture 17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l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’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’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17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334120"/>
            <a:ext cx="487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’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rebuchet MS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’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’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’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’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’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’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’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’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’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’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’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’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’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24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45820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ick out the words with a long a sound in “A Party Plan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 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’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visualize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self these questions as you read “A Turkey for Thanksgiving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sgiving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oves – the hard bottom part of the feet of animals such as moose, deer, horses, and shee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verbank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19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45820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____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____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_____.  Then she came back into the room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____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l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’s smile was as bright as the su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urkey cried like a bab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eep was farther up the hillside, looking round as a fur ball 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crow hung, black as a puff of wood smok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’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’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girl’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boys’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18" descr="Turkey for Thanksgivi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410080"/>
            <a:ext cx="4874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’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40:58Z</dcterms:modified>
  <cp:revision>25</cp:revision>
  <dc:subject/>
  <dc:title>Slide 1</dc:title>
</cp:coreProperties>
</file>